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4362-279D-4DA9-8D67-D968E2669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5B3-F5AC-477E-99C2-5AF34099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A53C-053D-49CF-BE84-146A3898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2BA5-9753-44F5-9AFB-C7CEE66F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F47A-EB36-494E-9B8D-EB83CF70D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7ED-6958-4AC0-BC1C-A3B1D6EFE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F6A6-2D98-443E-959F-689DA14B9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241-076A-436A-990C-0829C35B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515-3F08-4ADD-AD24-62B21F6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7EB-C521-4266-95A5-B3CF5372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752-C9D2-453F-BD5D-C3544266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03B-73F0-450D-BA74-4B3A384C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3A4-9BC8-41E3-B696-4EB8CD63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233-309F-4F79-80A5-B8427D95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76E-9FB1-45B7-BC6A-7DFA6195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F3A-D999-47B9-8A6E-43692338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725-3071-4B5F-9975-9ED7E299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728-E619-4F18-96C9-CD5CA875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D14-2F3E-4F4D-8F6D-7295E748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2A77-96BE-49EA-95D4-99E6AE5CE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image" Target="../media/image5.png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chord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ne of fluid-filled canals running along the sides of fish the enable it to detect move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lateral l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phibians are animals that have variable body temperatures and get their heat from external sources. What is this condition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ectothe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nidarians are predators that capture or poison their prey using ____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nematocy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name of the body form of a cnidarian that is characterized by a umbrella shaped body with tentacles that hang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medu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body symmetry of a spo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symmetrical body symme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mals  in the phylum Poriferia inclu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spo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group of invertebrates made up of more than 9000 species of jellyfish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nidari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ugs, snails, and animals that once lived in shells are in this kingd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oll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lusks have what type of symme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bilat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lusks reproduce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Science Teach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ex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lusks use what to obtain f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rad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ms are in this classifi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nel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thropods have this symme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bilate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thropods reproduce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exu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2286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762120"/>
            <a:ext cx="1324080" cy="119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6"/>
          <p:cNvSpPr/>
          <p:nvPr/>
        </p:nvSpPr>
        <p:spPr>
          <a:xfrm>
            <a:off x="1600200" y="9144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ponges and Cnidar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orms and Mollu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8"/>
          <p:cNvSpPr/>
          <p:nvPr/>
        </p:nvSpPr>
        <p:spPr>
          <a:xfrm>
            <a:off x="4495680" y="9907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thopods and Echinod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ptiles and Bi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m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380880" y="228600"/>
            <a:ext cx="91440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8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220" descr="TITLE"/>
          <p:cNvPicPr/>
          <p:nvPr/>
        </p:nvPicPr>
        <p:blipFill>
          <a:blip r:embed="rId101"/>
          <a:stretch/>
        </p:blipFill>
        <p:spPr>
          <a:xfrm>
            <a:off x="2666880" y="228600"/>
            <a:ext cx="3678480" cy="496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26"/>
          <p:cNvSpPr/>
          <p:nvPr/>
        </p:nvSpPr>
        <p:spPr>
          <a:xfrm>
            <a:off x="152280" y="114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d Amphib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thropods _________ are used for prote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ir exoskelet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hinoderms are part of this classifi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hylum Echinoderma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hinoderms have this symme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rad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tiles have this type of sk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ca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_____________ is a lightweight, modified scale that provides insulation to birds and enables fl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f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ong supporting rod in chordates is call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gas exchange , reptiles are dependent on 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lu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rd is a __________ because it can maintain a constant body temperature and is not dependent on the environmental tempera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ndothe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nakes cannot regulate that own body temperature.  They are known as 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ctothe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mmals feed their young from 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mmary gla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notochord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mmals that eat only plants are known as 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herbiv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ime during which placental mammals develop inside the uterus is called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est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1371600" y="25146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mmals that reproduce by laying eggs are called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monotre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ordates, the hollow structure that runs along the dorsal (back) part of the body is called t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nerve ch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imal that has a hollow nerve chord, a notochord, pharyngeal pouches and a tail that extends beyond the anus is classified as a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lrobinson</cp:lastModifiedBy>
  <dcterms:modified xsi:type="dcterms:W3CDTF">2008-04-07T20:10:19Z</dcterms:modified>
  <cp:revision>55</cp:revision>
  <dc:subject/>
  <dc:title>No Slide Title</dc:title>
</cp:coreProperties>
</file>